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10.gif" ContentType="image/gif"/>
  <Override PartName="/ppt/media/image18.jpeg" ContentType="image/jpeg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6.wmf" ContentType="image/x-wmf"/>
  <Override PartName="/ppt/media/image19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7FFA-EC3D-4E7E-8993-BB0FF441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E912-4DCA-4033-BB25-429274A3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D267-2A93-4750-B1C8-3582C355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7164-BA4B-43C6-9DF6-76FBAD39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B222-9ABE-4BDD-9C2C-34A9E5B5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EC3D-BD4F-41F6-B421-00C9224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5FB4D-DE8D-48E0-8AAD-00974C33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213CC-1568-46A3-827D-96DFE816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E998-2DB5-410D-AACD-5D4BFF75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D463-87F6-4414-AB36-3897E5A8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9422-916E-4288-9E90-BCCF7BE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E71B-0DD6-4338-BCD3-D86C48C4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0E88-DE55-451F-8B21-50059177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B8D-5E30-43CC-8A05-A9FF582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A00-1D3B-4410-878D-A529942A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732-A2E5-4992-AF27-A8346D7D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87FC-B485-4A17-B20C-94F9803C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39C2-52EF-46A0-A9B0-8BC1342D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17A7-3FB2-41AF-A6C5-6FE32774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7052-AE55-4122-971D-124B1D84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0949-1306-4ABA-856B-507F4360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1CC5-070E-40B5-9C84-F6558AE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C49B-86FF-4761-AAF7-D257497D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C8CF-2F60-4F30-9247-DD6059A3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D528-4358-49F6-AEE6-8417CA4E51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56C3-7245-4A56-AD8A-5835BE2674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file:///tmp/home/.config/libreoffice/4/user/gallery/~PP3166.WAV" TargetMode="External"/><Relationship Id="rId3" Type="http://schemas.microsoft.com/office/2007/relationships/media" Target="file:///tmp/home/.config/libreoffice/4/user/gallery/~PP3166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file:///tmp/home/.config/libreoffice/4/user/gallery/~PP3145.WAV" TargetMode="External"/><Relationship Id="rId3" Type="http://schemas.microsoft.com/office/2007/relationships/media" Target="file:///tmp/home/.config/libreoffice/4/user/gallery/~PP314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3815.WAV" TargetMode="External"/><Relationship Id="rId3" Type="http://schemas.microsoft.com/office/2007/relationships/media" Target="file:///tmp/home/.config/libreoffice/4/user/gallery/~PP381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file:///tmp/home/.config/libreoffice/4/user/gallery/~PP295.WAV" TargetMode="External"/><Relationship Id="rId3" Type="http://schemas.microsoft.com/office/2007/relationships/media" Target="file:///tmp/home/.config/libreoffice/4/user/gallery/~PP29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file:///tmp/home/.config/libreoffice/4/user/gallery/~PP408.WAV" TargetMode="External"/><Relationship Id="rId3" Type="http://schemas.microsoft.com/office/2007/relationships/media" Target="file:///tmp/home/.config/libreoffice/4/user/gallery/~PP408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97.WAV" TargetMode="External"/><Relationship Id="rId2" Type="http://schemas.microsoft.com/office/2007/relationships/media" Target="file:///tmp/home/.config/libreoffice/4/user/gallery/~PP297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file:///tmp/home/.config/libreoffice/4/user/gallery/~PP4062.WAV" TargetMode="External"/><Relationship Id="rId3" Type="http://schemas.microsoft.com/office/2007/relationships/media" Target="file:///tmp/home/.config/libreoffice/4/user/gallery/~PP4062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~PP3201.WAV" TargetMode="External"/><Relationship Id="rId3" Type="http://schemas.microsoft.com/office/2007/relationships/media" Target="file:///tmp/home/.config/libreoffice/4/user/gallery/~PP32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file:///tmp/home/.config/libreoffice/4/user/gallery/~PP2913.WAV" TargetMode="External"/><Relationship Id="rId3" Type="http://schemas.microsoft.com/office/2007/relationships/media" Target="file:///tmp/home/.config/libreoffice/4/user/gallery/~PP2913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file:///tmp/home/.config/libreoffice/4/user/gallery/~PP3271.WAV" TargetMode="External"/><Relationship Id="rId3" Type="http://schemas.microsoft.com/office/2007/relationships/media" Target="file:///tmp/home/.config/libreoffice/4/user/gallery/~PP327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081.WAV" TargetMode="External"/><Relationship Id="rId3" Type="http://schemas.microsoft.com/office/2007/relationships/media" Target="file:///tmp/home/.config/libreoffice/4/user/gallery/~PP308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file:///tmp/home/.config/libreoffice/4/user/gallery/~PP3219.WAV" TargetMode="External"/><Relationship Id="rId3" Type="http://schemas.microsoft.com/office/2007/relationships/media" Target="file:///tmp/home/.config/libreoffice/4/user/gallery/~PP321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file:///tmp/home/.config/libreoffice/4/user/gallery/~PP3061.WAV" TargetMode="External"/><Relationship Id="rId3" Type="http://schemas.microsoft.com/office/2007/relationships/media" Target="file:///tmp/home/.config/libreoffice/4/user/gallery/~PP306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2699.WAV" TargetMode="External"/><Relationship Id="rId3" Type="http://schemas.microsoft.com/office/2007/relationships/media" Target="file:///tmp/home/.config/libreoffice/4/user/gallery/~PP269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file:///tmp/home/.config/libreoffice/4/user/gallery/~PP3259.WAV" TargetMode="External"/><Relationship Id="rId3" Type="http://schemas.microsoft.com/office/2007/relationships/media" Target="file:///tmp/home/.config/libreoffice/4/user/gallery/~PP325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file:///tmp/home/.config/libreoffice/4/user/gallery/~PP3616.WAV" TargetMode="External"/><Relationship Id="rId3" Type="http://schemas.microsoft.com/office/2007/relationships/media" Target="file:///tmp/home/.config/libreoffice/4/user/gallery/~PP3616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eine Ferien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e We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32655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7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Fotografie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3225960" y="2513160"/>
            <a:ext cx="2922480" cy="38113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Grand Canyon besichtig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2362320" y="2514600"/>
            <a:ext cx="3863880" cy="43434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 Cola getrun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2579760" y="2590920"/>
            <a:ext cx="4105080" cy="42670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it abendessen geholf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86400" cy="42228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5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usik gehör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Music"/>
          <p:cNvSpPr/>
          <p:nvPr/>
        </p:nvSpPr>
        <p:spPr>
          <a:xfrm>
            <a:off x="1905120" y="2133720"/>
            <a:ext cx="4495680" cy="43434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9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gefallt mir g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940120" y="2133720"/>
            <a:ext cx="3308400" cy="441936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5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3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musst Arizona gegange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209680" y="2219400"/>
            <a:ext cx="5410440" cy="37242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5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Arizo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153640" cy="445140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einem Hot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200400" y="2895480"/>
            <a:ext cx="2585880" cy="17510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5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war in Sedo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2286000" y="2227320"/>
            <a:ext cx="4800600" cy="315288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m Salat gegess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666880" y="2373480"/>
            <a:ext cx="3886200" cy="327960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bin Rad gefahr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038480" y="3352680"/>
            <a:ext cx="2286000" cy="22161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Baseball gema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590920" y="2541600"/>
            <a:ext cx="4206600" cy="279252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em Pulli gekau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590920" y="2508120"/>
            <a:ext cx="3808440" cy="396900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Videospiele gespiel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419360" cy="356400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7:54Z</dcterms:created>
  <dc:creator>CUSD220</dc:creator>
  <dc:description/>
  <dc:language>en-US</dc:language>
  <cp:lastModifiedBy>CUSD220</cp:lastModifiedBy>
  <dcterms:modified xsi:type="dcterms:W3CDTF">2011-11-17T15:17:06Z</dcterms:modified>
  <cp:revision>4</cp:revision>
  <dc:subject/>
  <dc:title>Meine Ferien </dc:title>
</cp:coreProperties>
</file>